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CDB-C5F1-494C-9310-E7481F1C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50C-5FD0-425E-9580-E0182741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DC0B8-6C10-4B90-9576-4517FD70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74A87-9DF7-4085-936E-BD6C9007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FC7E8-C2B9-4F41-8058-7ECE93CA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32D20-F9CC-417C-AB08-7C27798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785D6-34F3-444D-870A-071BF80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B6907-4181-4A01-B680-B37D6BB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2C605-D0D4-47CA-9556-A4FA14A9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8713C-D4AE-4E12-AED5-C340EF30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2D516-A410-4FA8-844E-39EE1C2D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B92DE-864D-482F-81E7-0F10A017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740-9C57-43F1-8680-F870E5A4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03E92-5779-4938-A593-5D878CEC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EAF36-E7E7-448D-8E9A-13646509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C1CE8-7E5A-48B6-8E6E-9C656D99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7B3AD-4C8A-4C46-813A-92E61E2F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5391D-41BB-4299-9C5E-3A1776FC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2FC5A-AF9A-4FB8-833F-0F2018A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90DF8-9E0E-4E51-A7B4-C2D02E6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75D28-E808-499B-B497-0A649260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12229-8ACE-43ED-916E-9031F2B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D363C-AC22-4933-9173-0BB30BDA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3A0-C7A4-4646-9B41-DC25C943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99094-CD6E-4287-ACE5-B95D5112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B6846-A7C4-4B04-A401-076ED439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BC8BD-EF89-4E4F-9540-8A5A68BE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3B170-1C9A-4154-8DA2-3DA20400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B7C81-81A4-41F5-99D6-A394925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616A7-4151-4C81-A885-324B85B3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9C68E-11BF-4C3F-AA89-E85CF1F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F8E60-021B-46DA-A90C-7BDF364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11878-C7EA-467A-8175-AB8E806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9F7A7-6990-4572-8E25-F3D5195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D60-56E1-4CF3-B1D2-69645831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35C99-3991-453E-8E92-A29F830F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9074-CB78-4178-A1D9-C4B3ED80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D32FE-6E14-4DA4-A092-A54007C8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F4849-A73A-40F6-AA56-9899CC2A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11D9C-635C-40AB-9888-D2323DAD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89726-EC75-4E8E-ADED-F9EBBD1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F1F6B-17A6-4B10-8E16-9C32CE56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673F7-0971-4ACB-8357-6BCD1C1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F12B7-64A6-450C-BB38-B1E5CB16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942D2-82E8-46E9-936B-6D42F67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3748-4715-4673-8D50-9BF3974E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A26A5-CF13-46BF-8ACF-9BFBDD3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A47DE-7947-4AE0-85D3-B18399F4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8415B-F9BB-4F75-B78D-25EFED6B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E6CA5-19BC-4858-B5FF-77381A6D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D8B58-334F-4C74-85AA-158A16BC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22311-C507-469B-8D9D-9D710E1E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82B6C-B338-4D35-9311-EB277F8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85043-596E-4535-93C1-2973FFAC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72E7C-06DB-4EC1-B8AB-8F7E07D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6EAEF-91CB-45D9-B166-DB68DC1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E83-76B6-42B5-9B7B-B24AB439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C088F-62F8-434B-943E-AF398035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C7540-13CB-47AD-98EA-D09650B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28048-9583-40EC-AB15-8FAF030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81BD2-E953-4CB5-9DA6-F207943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6319E-806B-48AC-A3C1-DCFE044A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04C70-EE5F-4651-921B-21695C41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6E329-ABA6-4EA0-B938-73A16954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B359C-6030-47B0-9546-9DC527A3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6A409-3C8A-402D-AFA1-05CF6DD1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970FD-9190-4A0C-8EE2-62F6E05A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0C52-9A0D-460A-9B1C-22D3C2C4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401BC-2665-485A-9CC3-5283BDC8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C7024-1C60-4D9F-BA1D-7F63C51C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F928D-2686-49EB-973B-6F0436CF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9C34C-D12F-4BAD-8534-2D17CF92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4BBB3-5610-4608-A13B-98C8B0B1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5B1FB-5A06-4B72-BDF2-F19721E4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38B60-ACAD-4FFB-9647-C79F987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44F55-F6A2-4EBC-93EB-56B43511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DABDB-C980-4FB2-BCBC-96200BDC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32081-675B-4035-A563-7FB84035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F8DB-3206-4831-B89B-F82791F6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20CAC-FE14-4D24-9639-54D1135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4440F-74DD-4289-A798-9F7BA51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97E27-9A4B-4DAE-B604-87FD590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E6B0A-BD5C-4F54-A170-DF3BC17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E3B07-D5EA-4D09-BDCA-E12E579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BF793-0E90-483C-BEF9-C5A2781E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71BEE-3A99-4E0D-BBB9-7E1D863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B0618-71EF-43EC-A224-71AB9B8B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3D34F-5D45-4AEB-A43E-888AEB09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9C7DB-8297-442C-B2A9-0A8CADF2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E0F0-26B9-40E4-A165-56C05172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0621A-F461-4E99-97DF-BD55B620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77627-8027-44F3-BE51-365948DA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9E85A-2F54-4985-B9F9-052DB44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8A34A-2AE3-4C20-8683-FAD58FAD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3F70A-09B2-462F-A5F0-4105B6AA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A48F8-5589-466F-B438-80AC591C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3648B-9B58-4EE6-B472-26BCAB39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053BC-FE3E-4199-9935-6E29E60A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1B366-3427-42D0-8979-3C44F45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9573A-5A39-48D8-8423-B3EA10C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2CE5-3D32-45FF-8B5C-B4BB610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ADD88-81D0-4436-B94A-D98D1CA6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9D67B-9CD1-488C-BCB4-88130FE7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1A081-269E-4F5F-AD31-D2D5B327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873A0-9CE1-4A72-BD6E-4ED171E9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89A74-B616-4F2B-B0BD-CBB07B62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77550-0796-4EAB-B800-73B76D9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D15CA-8C5E-4B64-B805-8685A5D1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27AB1-9CD7-4DC9-A290-929EA0EF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30483-9C2C-46DF-949B-4DB28EFE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A6E44-E811-4E57-8E25-B966948A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7CD-B86D-46E9-8B15-F2395551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4E15-64A7-4DFC-8AF5-E224069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6D113-EF8A-4BAC-ABEB-FD8BB38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AD244-4117-45F9-AEA3-5D54CFE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905BA-7B32-4C98-8C7E-00622482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E2649-A179-4713-8851-4C02D767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4E517-8EA0-4489-A0C3-716DCD90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69776-0F7D-4B97-B899-50D6C8EB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AA6E8-4A44-4BF1-B22F-E70EA483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CBA08-105D-4BDD-A6B3-9EA72D4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7995DD-3D04-4AEC-B6A6-63416B4B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DD44A-0292-4456-B7B8-A20B427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6F32-AE22-4B6C-BC8F-627CD64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0EE13-90B7-4D5F-B268-ACBBB30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BBC0E-C6D7-432C-9D01-4962BB7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5F28C-DF30-4073-9705-FEC0F4D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141CB2-AD06-4463-9DB4-13152AF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AE7E89-E6EA-4179-B0B4-7F9E39EF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63D64-6574-4362-ACB2-D444ED12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62B65C-8C1F-43EE-8DBD-FA56FBB7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9340FC-24A0-471C-B23A-C43852F2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E1ED4-7710-4162-A05C-5D980830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A891B-EAA8-4C67-840D-F03DBA2D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09D1-4088-44B3-BFB9-83C0EA00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F5BE0-50D4-47B2-89F1-B95BA4A7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B4D1A-D127-4DA0-9D80-6E2E266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6EE54-2C07-4749-8E31-7F628A32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FCDAE-E2FE-4151-9890-026851F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01054C-C8FA-47D0-A2FA-85428FB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224FF-03E6-4C3F-9308-408D9379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9562C-E0F1-41B6-A110-ACC70006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3455F-CFAE-4FF0-B91F-9E2EF79F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BF210-EBB9-4D01-B763-50897E8F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183CB-813B-4DB2-BAC6-4730A470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E372-8536-4E6A-AB7F-3394D754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28A00-646F-4BFF-B45A-98D018E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C162A-A889-4385-87EB-A6C50B3E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C9A460-3D8F-41B5-B047-121209FA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612BB-68F3-461B-8A85-B00ABE32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7A4F2-C496-4F13-B083-4034BB7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B9C6C-32BE-47CA-A964-40DBFAD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9C12B4-75F6-49E3-879D-68F7623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3B5E7-32E6-435C-9EA0-E3E7DDA7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8B81C7-D0DB-4287-8ED6-B9F8070F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162F6A-FECE-49F0-8283-6F3F0672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74FD-C89E-4F70-869E-3ABC048F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82B122-1666-4302-B3D8-1AABD2AB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5B61F-8459-4953-8392-7CF060FC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2919D-D2F7-4EFA-B7AD-08FB054C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3D5BD-57CB-421A-8137-CAB452D7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5332A-DC2B-4549-B193-E5DF8093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F1A6F-467F-4A5D-8248-3EADFA3A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00E49-855F-4643-91C3-10A6DBE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6EBB8-267D-43CD-9E0A-0F7D8AD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19112-E657-41AE-9014-B7706C6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77B58D-DAD8-4B5E-835A-FDB50C7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7513-110A-408E-9E99-DA8BF39A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86F98-898B-496D-9C6F-9C161D5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F6E9A-62FD-47DD-8BB7-11A4F5B3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7B7D5-FE6F-416E-AE49-5B36A5F9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F8BC52-DDEE-40AD-8A62-DCF409F5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70071-0564-41C7-9A88-D1F4F12A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255416-EAAA-435D-AA60-C7D8C21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414813-B410-453C-97D3-8D5A415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B329CC-6D1B-4A3A-BF47-0FE67522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91D54-3301-4B51-83F8-98D8AC77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AD519-D384-4AA9-A68C-A6F2DD4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47904-67D9-4BB8-87C1-866F72FD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B45D17-18E9-4724-AF50-94FF996E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92456-3800-4834-B243-0AAE1EA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E8DA27-3AF2-4583-A814-BE5ACD2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1EB351-1F84-4F89-98B2-4A480AD9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C591B5-C70A-461E-BDF2-CFE239F6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E56DC3-315F-4C2D-8E84-DE4C3E54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9CF1FF-C503-4561-85D8-AD1EBF2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3B4783-6FC3-44EF-A746-10B33F4A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741895-EBC8-41BA-A2FE-5DC64676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83829-11D8-449D-A244-2159AF18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4496-7273-4658-AFB2-6BD8585C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F76302-35F6-4A50-BB00-85DC3747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3A89A7-407E-4B65-AA47-A2AAF05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3C8E7B-0191-40B2-8901-94F7745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21C4DB-EA5B-434E-A51C-4BA9762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E59BE1-0AC4-4E3C-88C3-0BF54268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285389-5E34-468F-A40B-76ACCAF3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DC308-AFCB-40B4-B755-7E394937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072B-6D8D-4368-811F-76C569A4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43BB-BFFD-43B5-BAD8-33DED04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283-2A5D-4674-8167-9C919798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EE46-BA42-4DB3-B7C0-09DD5704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FB1D-07D5-46AF-87C5-AB5AD7B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E321-8EA3-4DB5-8F7D-B863925A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EB83-479C-4575-9C50-D4232C1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A65A-D280-4AC6-A114-26AB516E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3FC4-E59F-4A77-9B77-E7C43A97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6090-D5A3-451E-9224-A916A8A0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0B4B-A98A-484C-82AB-33019B93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E5F8-C815-477F-8DE7-3DD52B2A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4B0F-5055-4E5C-B363-4373024A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A3A-BD8E-4693-B8DD-BE5C3AA3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30BC-7765-40A1-88B7-401169E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22A2-87E4-4F5B-9951-D6EC46B4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5693-0BF6-4B2D-A196-FAC3EB30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2918-DD5C-4EEC-85C0-927702F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E17A-E1D2-4C72-B71E-8D252ED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B86C-1BB0-4D03-8B57-0EE1025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9781-DD65-4575-8775-EB39B7C9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FF3A-AFAC-4051-8BF7-2D5EA65A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6CA9-C106-460B-845E-3034793A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8D49-F373-479F-9315-500FA069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61D-0DC3-4021-883F-BC4736E1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1CCA-3B7E-44E4-A293-3A2A797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781B-0B9F-435C-8851-2A623AC1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16C9E-C619-49F3-8F97-2B1E1B9F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5B353-EA29-4B09-8888-33097363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A35BC-1E06-427F-BE31-8FB7BB0E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63CAA-DCDC-4467-B976-281DEA78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27888-3689-4BBE-AD75-1C5C2368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62382-B9B4-4329-86DD-B1612967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D6289-BE20-4AA5-8407-6FCA4CB0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654FD-0A68-488A-BE01-58B7651C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7BE-8D04-4F8B-B931-51B2B53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CDB0-DACC-41AE-A0A2-67C3C3D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C2617-9CAE-4C7C-9076-79F03FF7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3774-F832-46C6-B362-A91BF2A3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512A-CAC1-4FDE-8464-E0F66C4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5217-824A-4184-88C1-49D75F68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7ACB0-BC8E-4B34-B4F1-D41806B4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3C54E-A837-4963-B4BD-5A8AB280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000FC-E76F-481F-B0EE-BABDFA1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93EE-4F89-4567-9AAC-99AAB2B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1AB0-F406-4C10-A7CB-A79E3FA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649-6A96-4D80-9183-C63D57B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5D91-7299-433C-8497-D8CC2805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D7ED-DA66-4F39-B311-97021B77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8436-A6D3-4084-8F91-27E9BECD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223C4-84BB-425E-82F3-6343248F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4410-0ECE-4898-AD64-31F18A4D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C4531-7A50-44DF-8563-B71DF232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B7B01-106E-444C-9E32-87A43FB9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D32F2-EF04-4FF3-9F00-D8531B3E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B6E4E-98F7-4144-A1DE-6A49A90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1A83F-6AC0-4CE9-8846-52C3025A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1DA-BB3B-40E4-A63C-F07D166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8892-9B52-4FB8-938E-0553C9D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DFC5-6973-4B0A-B46C-C92C041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4925-724B-4A7D-BE97-C48C9830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1EA7-2355-4A90-BE80-9FFD4297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BC514-DB11-4F11-B6FE-A82B6E59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67437-588C-4E5D-898C-B7BB1F0B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C77D4-DC41-4176-B45E-3728435F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DE810-447E-4691-B668-15856D24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9DD4B-85BB-4DE6-9215-DCCEF9B4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F099C-585F-48A5-8D9C-75B1BF35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C32-81E3-4023-8E75-956B5DC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A55BE-0DC8-4608-938C-A52DDD4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B97B-C883-42D0-B80B-D3252C72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B5772-08F6-4C54-A61B-0BBAF13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0C7D1-2E5F-404C-89A4-506BAB6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87A6-0D58-4B32-AD42-820060C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141A9-BA3E-4468-9F4E-4EB090BF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2CC60-9650-4223-9F1E-5FBA8220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30BF6-FFF1-4A33-9717-9029CA82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8FB42-73E1-4347-8403-819007C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3A4B0-6ED7-4E5F-BA6E-61A5D22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2AF3-529C-4499-9B2F-50A03ECC95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2966-9FE9-4A96-9E21-F156F07A07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FE9-681C-40BB-B0EA-66EAC05DE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38E5-FE6F-4C76-BBDB-3D80006C0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E311-6112-4956-9DDF-1773A07334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8BDD-1ED3-4CC2-8F3F-661083E0A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F095-9B97-4790-A495-3CDC53DED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884A-5D4C-4123-AD25-705D8DCF0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43B-50AC-4055-AB8A-584162EFE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3E74-7036-4421-B625-A2131BEF2B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0538-51FD-4ABE-B703-CD0448170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AB21-42AB-44AF-926D-E5D7D8D0E2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416-892C-435C-BD24-5FAB2DE9A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0F2-A56C-4B77-B458-16ED57EE8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50D2-F9DC-4473-A059-7D2884C1B0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27C-6358-46E8-9218-575BD560B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055-5C6A-470D-808A-7A1553BD51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CE87-8F3E-4BFF-AAB4-CE9C598E9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3C0A-69A8-407F-BE34-99D077AAF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6A6-A112-4129-87E9-61433FDD2E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F912-7552-4B0B-B271-344FCF6B07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A5F1-F20A-418F-B424-326AEC33EF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DDAB-38AF-45AA-9C76-D0F32EFD01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C4ED-D336-4B4C-9291-B564FF7007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0BC-BC2E-4CA8-A5FB-961A2B96D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69B2-5F90-4029-B72D-5979DC59E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28B3-B94A-401B-8B35-A36F963AC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1F06-D944-4B8E-B1DF-CB561EF83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3B12-3954-4C29-954B-1DB728E19C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34E1-0773-4FA1-8AD1-834EB852A1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554A-E066-4BDA-8492-61CB40B9F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D94-F86A-4424-8AE8-0F7D30542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D572-25E6-42CB-9FBE-CC3C30AF1D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9DEE-C444-42EA-80B0-C37B6FDBF4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65A-D6A2-48DC-9D0B-D02610EC0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20D0-33B0-4B83-9F16-7F46D1A95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E1D-60A6-496A-BD3F-0780DCF21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CA1-E804-4E9E-8557-B1D3A77C5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6F8E-0CC8-4269-9492-5C1E96699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DF3E-D090-4EFF-8FB3-FF8338B2C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49BB-0556-4A50-8569-FF04A23D5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4C5A-8E21-440F-B33F-D886BBFAB1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881360" y="2881440"/>
            <a:ext cx="53812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52280" y="687240"/>
            <a:ext cx="8839440" cy="60962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657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050920" y="472428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443640" y="47973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716360" y="5473800"/>
            <a:ext cx="17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3419640" y="6237360"/>
            <a:ext cx="1079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1343160" y="1500120"/>
            <a:ext cx="6457680" cy="38577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5969160" y="27385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5983200" y="37306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6243480" y="47102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37960" y="790560"/>
            <a:ext cx="8668080" cy="59436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27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5651640" y="2521080"/>
            <a:ext cx="28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5867280" y="3213000"/>
            <a:ext cx="27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971640" y="547380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1187280" y="6165720"/>
            <a:ext cx="34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7"/>
          <a:stretch/>
        </p:blipFill>
        <p:spPr>
          <a:xfrm>
            <a:off x="5148360" y="550224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8"/>
          <a:stretch/>
        </p:blipFill>
        <p:spPr>
          <a:xfrm>
            <a:off x="5364000" y="6194520"/>
            <a:ext cx="34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43000" y="868320"/>
            <a:ext cx="8658000" cy="55627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44658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44658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446580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55640" y="4941720"/>
            <a:ext cx="44658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611280" y="5661000"/>
            <a:ext cx="446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328680" y="809640"/>
            <a:ext cx="8705880" cy="5886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71640" y="391968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042920" y="530064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684360" y="6021360"/>
            <a:ext cx="54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871560" y="324000"/>
            <a:ext cx="6694560" cy="6465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332000" y="314172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332000" y="3716280"/>
            <a:ext cx="61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258920" y="4221000"/>
            <a:ext cx="61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1187280" y="530064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1158840" y="5776920"/>
            <a:ext cx="6192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09440" y="90360"/>
            <a:ext cx="8925120" cy="6677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26920" y="318456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755640" y="458136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900000" y="530064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684360" y="6006960"/>
            <a:ext cx="612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5:4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